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0463-45C5-404D-865E-677438D6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E0C-8B71-46CC-B6AB-2018781A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7A0A-AF50-4318-B5E5-63BD85A5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5B6B-A401-4004-918E-FF36B30E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0294-F856-4B50-9336-9F47C249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5A62-A311-4855-B0F3-DABBC361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45ED-27FD-4520-AA89-8DB4D5D3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23B3-B0A8-444C-948A-8929322F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E909-132E-490F-AEB2-7544F338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C069-AD50-4A81-B7B4-4DD6C67B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0D7E-D38D-4E29-8AC6-AFA5C408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C81F-41F2-4BD3-A3DD-B991AB34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9936-7517-4872-A3B0-26B683958C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-785880" y="0"/>
            <a:ext cx="11072880" cy="707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8"/>
          <p:cNvGrpSpPr/>
          <p:nvPr/>
        </p:nvGrpSpPr>
        <p:grpSpPr>
          <a:xfrm>
            <a:off x="0" y="214200"/>
            <a:ext cx="9274320" cy="6643800"/>
            <a:chOff x="0" y="214200"/>
            <a:chExt cx="9274320" cy="6643800"/>
          </a:xfrm>
        </p:grpSpPr>
        <p:pic>
          <p:nvPicPr>
            <p:cNvPr id="43" name="Picture 5" descr=""/>
            <p:cNvPicPr/>
            <p:nvPr/>
          </p:nvPicPr>
          <p:blipFill>
            <a:blip r:embed="rId1"/>
            <a:srcRect l="13713" t="11088" r="15243" b="6885"/>
            <a:stretch/>
          </p:blipFill>
          <p:spPr>
            <a:xfrm>
              <a:off x="0" y="263160"/>
              <a:ext cx="4572000" cy="30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4" descr=""/>
            <p:cNvPicPr/>
            <p:nvPr/>
          </p:nvPicPr>
          <p:blipFill>
            <a:blip r:embed="rId2"/>
            <a:srcRect l="14274" t="11319" r="15447" b="6250"/>
            <a:stretch/>
          </p:blipFill>
          <p:spPr>
            <a:xfrm>
              <a:off x="4541760" y="214200"/>
              <a:ext cx="4732560" cy="31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2" descr=""/>
            <p:cNvPicPr/>
            <p:nvPr/>
          </p:nvPicPr>
          <p:blipFill>
            <a:blip r:embed="rId3"/>
            <a:srcRect l="14274" t="11718" r="16324" b="6250"/>
            <a:stretch/>
          </p:blipFill>
          <p:spPr>
            <a:xfrm>
              <a:off x="2285640" y="3500280"/>
              <a:ext cx="5052240" cy="335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TextBox 10"/>
          <p:cNvSpPr/>
          <p:nvPr/>
        </p:nvSpPr>
        <p:spPr>
          <a:xfrm>
            <a:off x="714240" y="3571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5286240" y="3571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3143160" y="36432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-1000080" y="214200"/>
            <a:ext cx="11287080" cy="764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14274" t="11718" r="15995" b="6250"/>
          <a:stretch/>
        </p:blipFill>
        <p:spPr>
          <a:xfrm>
            <a:off x="-714240" y="642960"/>
            <a:ext cx="5076720" cy="3357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rcRect l="14529" t="11304" r="15558" b="6329"/>
          <a:stretch/>
        </p:blipFill>
        <p:spPr>
          <a:xfrm>
            <a:off x="4714920" y="642960"/>
            <a:ext cx="5072040" cy="3359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rcRect l="13967" t="10871" r="16189" b="6831"/>
          <a:stretch/>
        </p:blipFill>
        <p:spPr>
          <a:xfrm>
            <a:off x="1928880" y="4000680"/>
            <a:ext cx="5214960" cy="345420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0" y="7858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2786040" y="42148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5357880" y="7858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MP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MP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14274" t="11718" r="16324" b="6250"/>
          <a:stretch/>
        </p:blipFill>
        <p:spPr>
          <a:xfrm>
            <a:off x="500040" y="857160"/>
            <a:ext cx="59119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5:16:16Z</dcterms:created>
  <dc:creator>Thermal Analysis</dc:creator>
  <dc:description/>
  <dc:language>en-US</dc:language>
  <cp:lastModifiedBy>Catherine</cp:lastModifiedBy>
  <dcterms:modified xsi:type="dcterms:W3CDTF">2010-02-22T13:47:57Z</dcterms:modified>
  <cp:revision>24</cp:revision>
  <dc:subject/>
  <dc:title>Slide 1</dc:title>
</cp:coreProperties>
</file>