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701-CBC3-4A54-8388-2B1C8F2E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7E7-1BBC-450F-A6F3-F754DDA1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C97-418E-4F89-B362-4DAB3275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E92-B4F6-4521-BD84-FEA7E013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995-C26B-436A-9F94-B391FB1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590-C410-4DFE-9CFA-7B33EA1B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F36-23F7-4CFC-9A13-86BE09F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C54-49E5-4A3E-B96B-7F86A14B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31A-E5F5-4E01-8795-0E6E451F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BE0-716E-4B7B-9D8A-19E52CFE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387-52A0-4366-A37C-8534CA1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CA8-B9F4-439A-A038-C1A6D80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82D4-0257-43FA-87D2-408ED91F9B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-785880" y="0"/>
            <a:ext cx="11072880" cy="70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214200"/>
            <a:ext cx="9274320" cy="6643800"/>
            <a:chOff x="0" y="214200"/>
            <a:chExt cx="9274320" cy="6643800"/>
          </a:xfrm>
        </p:grpSpPr>
        <p:pic>
          <p:nvPicPr>
            <p:cNvPr id="43" name="Picture 5" descr=""/>
            <p:cNvPicPr/>
            <p:nvPr/>
          </p:nvPicPr>
          <p:blipFill>
            <a:blip r:embed="rId1"/>
            <a:srcRect l="13713" t="11088" r="15243" b="6885"/>
            <a:stretch/>
          </p:blipFill>
          <p:spPr>
            <a:xfrm>
              <a:off x="0" y="263160"/>
              <a:ext cx="4572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"/>
            <p:cNvPicPr/>
            <p:nvPr/>
          </p:nvPicPr>
          <p:blipFill>
            <a:blip r:embed="rId2"/>
            <a:srcRect l="14274" t="11319" r="15447" b="6250"/>
            <a:stretch/>
          </p:blipFill>
          <p:spPr>
            <a:xfrm>
              <a:off x="4541760" y="214200"/>
              <a:ext cx="4732560" cy="31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rcRect l="14274" t="11718" r="16324" b="6250"/>
            <a:stretch/>
          </p:blipFill>
          <p:spPr>
            <a:xfrm>
              <a:off x="2285640" y="3500280"/>
              <a:ext cx="50522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10"/>
          <p:cNvSpPr/>
          <p:nvPr/>
        </p:nvSpPr>
        <p:spPr>
          <a:xfrm>
            <a:off x="714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5286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14316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-1000080" y="214200"/>
            <a:ext cx="11287080" cy="76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274" t="11718" r="15995" b="6250"/>
          <a:stretch/>
        </p:blipFill>
        <p:spPr>
          <a:xfrm>
            <a:off x="-714240" y="64296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4529" t="11304" r="15558" b="6329"/>
          <a:stretch/>
        </p:blipFill>
        <p:spPr>
          <a:xfrm>
            <a:off x="4714920" y="642960"/>
            <a:ext cx="5072040" cy="33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13967" t="10871" r="16189" b="6831"/>
          <a:stretch/>
        </p:blipFill>
        <p:spPr>
          <a:xfrm>
            <a:off x="1928880" y="4000680"/>
            <a:ext cx="5214960" cy="345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786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357880" y="785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M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M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4274" t="11718" r="16324" b="6250"/>
          <a:stretch/>
        </p:blipFill>
        <p:spPr>
          <a:xfrm>
            <a:off x="500040" y="857160"/>
            <a:ext cx="591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16:16Z</dcterms:created>
  <dc:creator>Thermal Analysis</dc:creator>
  <dc:description/>
  <dc:language>en-US</dc:language>
  <cp:lastModifiedBy>Catherine</cp:lastModifiedBy>
  <dcterms:modified xsi:type="dcterms:W3CDTF">2010-02-22T13:47:57Z</dcterms:modified>
  <cp:revision>24</cp:revision>
  <dc:subject/>
  <dc:title>Slide 1</dc:title>
</cp:coreProperties>
</file>