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018-D151-4C62-8892-25A11C0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012-B6DE-44FD-9EA5-CD7FEDB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156-D5B8-43EB-A3B1-C6851EE1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C0C-6E34-4897-A208-E7A1E173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CC5-3A8C-4242-88AF-438D0FDD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D71-8E94-41C0-906C-3CB5BF2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473-750D-4FAF-9B4A-462C8A65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76F-70D0-4181-B181-8C6291DC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D91-0B82-46C8-98B7-2AF23377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CEE-3B2B-49F6-87C2-AC9A4C5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F12-1B88-471B-8886-4938036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B47-D777-436F-9487-B80578D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9A08-402B-4C9B-A136-E610E4F5F1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-785880" y="0"/>
            <a:ext cx="11072880" cy="70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214200"/>
            <a:ext cx="9274320" cy="6643800"/>
            <a:chOff x="0" y="214200"/>
            <a:chExt cx="9274320" cy="6643800"/>
          </a:xfrm>
        </p:grpSpPr>
        <p:pic>
          <p:nvPicPr>
            <p:cNvPr id="43" name="Picture 5" descr=""/>
            <p:cNvPicPr/>
            <p:nvPr/>
          </p:nvPicPr>
          <p:blipFill>
            <a:blip r:embed="rId1"/>
            <a:srcRect l="13713" t="11088" r="15243" b="6885"/>
            <a:stretch/>
          </p:blipFill>
          <p:spPr>
            <a:xfrm>
              <a:off x="0" y="263160"/>
              <a:ext cx="4572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"/>
            <p:cNvPicPr/>
            <p:nvPr/>
          </p:nvPicPr>
          <p:blipFill>
            <a:blip r:embed="rId2"/>
            <a:srcRect l="14274" t="11319" r="15447" b="6250"/>
            <a:stretch/>
          </p:blipFill>
          <p:spPr>
            <a:xfrm>
              <a:off x="4541760" y="214200"/>
              <a:ext cx="4732560" cy="31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rcRect l="14274" t="11718" r="16324" b="6250"/>
            <a:stretch/>
          </p:blipFill>
          <p:spPr>
            <a:xfrm>
              <a:off x="2285640" y="3500280"/>
              <a:ext cx="50522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10"/>
          <p:cNvSpPr/>
          <p:nvPr/>
        </p:nvSpPr>
        <p:spPr>
          <a:xfrm>
            <a:off x="714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5286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14316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-1000080" y="214200"/>
            <a:ext cx="11287080" cy="76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274" t="11718" r="15995" b="6250"/>
          <a:stretch/>
        </p:blipFill>
        <p:spPr>
          <a:xfrm>
            <a:off x="-714240" y="64296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4529" t="11304" r="15558" b="6329"/>
          <a:stretch/>
        </p:blipFill>
        <p:spPr>
          <a:xfrm>
            <a:off x="4714920" y="642960"/>
            <a:ext cx="5072040" cy="33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13967" t="10871" r="16189" b="6831"/>
          <a:stretch/>
        </p:blipFill>
        <p:spPr>
          <a:xfrm>
            <a:off x="1928880" y="4000680"/>
            <a:ext cx="5214960" cy="345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786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357880" y="785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M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M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4274" t="11718" r="16324" b="6250"/>
          <a:stretch/>
        </p:blipFill>
        <p:spPr>
          <a:xfrm>
            <a:off x="500040" y="857160"/>
            <a:ext cx="591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16:16Z</dcterms:created>
  <dc:creator>Thermal Analysis</dc:creator>
  <dc:description/>
  <dc:language>en-US</dc:language>
  <cp:lastModifiedBy>Catherine</cp:lastModifiedBy>
  <dcterms:modified xsi:type="dcterms:W3CDTF">2010-02-22T13:47:57Z</dcterms:modified>
  <cp:revision>24</cp:revision>
  <dc:subject/>
  <dc:title>Slide 1</dc:title>
</cp:coreProperties>
</file>