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800-5E77-4EE5-818B-653D2029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56B-B352-4966-9D47-EB7B740A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C21-185A-4B2A-A705-B6ABC918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807-3D47-4B84-BAF9-078AE587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8B2-64C2-4099-BCD4-3B357EF6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2FB-E8BA-49C0-92B0-99AD14BC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3DF-6ED8-4397-841D-CC9590C3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323-C150-47E7-AEA0-FF1940E1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83E-B15B-45A6-9CCD-4CAEF4C4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D9B-8E8C-4F87-892D-BE95340D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7F1-C3F7-430B-B864-47837C56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526-D1CD-4769-841A-09053C5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BE42-AC6C-4A69-9168-658CB69193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-785880" y="0"/>
            <a:ext cx="11072880" cy="70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214200"/>
            <a:ext cx="9274320" cy="6643800"/>
            <a:chOff x="0" y="214200"/>
            <a:chExt cx="9274320" cy="6643800"/>
          </a:xfrm>
        </p:grpSpPr>
        <p:pic>
          <p:nvPicPr>
            <p:cNvPr id="43" name="Picture 5" descr=""/>
            <p:cNvPicPr/>
            <p:nvPr/>
          </p:nvPicPr>
          <p:blipFill>
            <a:blip r:embed="rId1"/>
            <a:srcRect l="13713" t="11088" r="15243" b="6885"/>
            <a:stretch/>
          </p:blipFill>
          <p:spPr>
            <a:xfrm>
              <a:off x="0" y="263160"/>
              <a:ext cx="4572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4" descr=""/>
            <p:cNvPicPr/>
            <p:nvPr/>
          </p:nvPicPr>
          <p:blipFill>
            <a:blip r:embed="rId2"/>
            <a:srcRect l="14274" t="11319" r="15447" b="6250"/>
            <a:stretch/>
          </p:blipFill>
          <p:spPr>
            <a:xfrm>
              <a:off x="4541760" y="214200"/>
              <a:ext cx="4732560" cy="31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rcRect l="14274" t="11718" r="16324" b="6250"/>
            <a:stretch/>
          </p:blipFill>
          <p:spPr>
            <a:xfrm>
              <a:off x="2285640" y="3500280"/>
              <a:ext cx="5052240" cy="33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Box 10"/>
          <p:cNvSpPr/>
          <p:nvPr/>
        </p:nvSpPr>
        <p:spPr>
          <a:xfrm>
            <a:off x="714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5286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314316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-1000080" y="214200"/>
            <a:ext cx="11287080" cy="764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4274" t="11718" r="15995" b="6250"/>
          <a:stretch/>
        </p:blipFill>
        <p:spPr>
          <a:xfrm>
            <a:off x="-714240" y="642960"/>
            <a:ext cx="507672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14529" t="11304" r="15558" b="6329"/>
          <a:stretch/>
        </p:blipFill>
        <p:spPr>
          <a:xfrm>
            <a:off x="4714920" y="642960"/>
            <a:ext cx="5072040" cy="335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rcRect l="13967" t="10871" r="16189" b="6831"/>
          <a:stretch/>
        </p:blipFill>
        <p:spPr>
          <a:xfrm>
            <a:off x="1928880" y="4000680"/>
            <a:ext cx="5214960" cy="3454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785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786040" y="4214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357880" y="785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M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M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4274" t="11718" r="16324" b="6250"/>
          <a:stretch/>
        </p:blipFill>
        <p:spPr>
          <a:xfrm>
            <a:off x="500040" y="857160"/>
            <a:ext cx="5911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16:16Z</dcterms:created>
  <dc:creator>Thermal Analysis</dc:creator>
  <dc:description/>
  <dc:language>en-US</dc:language>
  <cp:lastModifiedBy>Catherine</cp:lastModifiedBy>
  <dcterms:modified xsi:type="dcterms:W3CDTF">2010-02-22T13:47:57Z</dcterms:modified>
  <cp:revision>24</cp:revision>
  <dc:subject/>
  <dc:title>Slide 1</dc:title>
</cp:coreProperties>
</file>